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8.jpeg" ContentType="image/jpeg"/>
  <Override PartName="/ppt/media/image22.wmf" ContentType="image/x-wmf"/>
  <Override PartName="/ppt/media/image20.wmf" ContentType="image/x-wmf"/>
  <Override PartName="/ppt/media/image32.jpeg" ContentType="image/jpeg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9.wmf" ContentType="image/x-wmf"/>
  <Override PartName="/ppt/media/image42.jpeg" ContentType="image/jpeg"/>
  <Override PartName="/ppt/media/image35.png" ContentType="image/png"/>
  <Override PartName="/ppt/media/image43.jpeg" ContentType="image/jpeg"/>
  <Override PartName="/ppt/media/image36.jpeg" ContentType="image/jpeg"/>
  <Override PartName="/ppt/media/image37.jpeg" ContentType="image/jpeg"/>
  <Override PartName="/ppt/media/image8.wmf" ContentType="image/x-wmf"/>
  <Override PartName="/ppt/media/image38.jpeg" ContentType="image/jpe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33.jpeg" ContentType="image/jpeg"/>
  <Override PartName="/ppt/media/image5.wmf" ContentType="image/x-wmf"/>
  <Override PartName="/ppt/media/image39.jpeg" ContentType="image/jpeg"/>
  <Override PartName="/ppt/media/image4.wmf" ContentType="image/x-wmf"/>
  <Override PartName="/ppt/media/image30.jpeg" ContentType="image/jpe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1.jpeg" ContentType="image/jpeg"/>
  <Override PartName="/ppt/media/image10.wmf" ContentType="image/x-wmf"/>
  <Override PartName="/ppt/media/image25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3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6940-4398-4C0B-A8AD-7774C68D0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F93D-F6EC-4702-9169-059F4D10DB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joijoijoijioijoijoij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71B-A936-409B-90C8-D5B12A14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985-A9AE-499C-A419-12CEEEA8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FF8-EB9E-4977-9204-CA6E169B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831-76C8-482D-8900-23BC1C41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6BC0-90A2-48DC-A172-8A86D476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BD88-94B0-4685-B689-7A59451B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851B-5775-4404-9DB5-1B8C60EF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AAB0-5761-4A73-ACB4-24AFB940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A1AE-FD17-4126-8B30-7DE45B19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A452-4DCE-4AAA-905C-5BA135D7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4496-8A6A-4935-9691-E27CB1DB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13CB-2096-4868-96D7-33B365E3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B74E-9D4E-4F3E-AF4F-BBABA10B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8481-6D69-4165-A376-5CB1EA3A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BDBF-7F80-4D8D-90C5-A63895DA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1481-4D4F-4BA0-BB63-99A71E67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B22C-E6F9-47DC-8D75-411C5B67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16A83-1C1E-4537-9C59-1B701024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29A9F-541C-4A90-8DF9-4955024A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29FEC-EC86-4991-95BB-1940D5C8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B16B-FA9B-4B57-AEFE-DA9CEEEC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4116-20F4-4F58-94F4-B36F81F0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030A-F1AC-437D-A00F-3CCBEA77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31C5C-A7BC-4636-B8E1-DBADC15F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291F5-E2D1-49B8-A49C-5D4CB631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95588-F4C9-4704-9596-47B599EB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9566F-39A8-4979-977B-C61F2023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5A37C-9ED2-4B80-8DCB-559C6904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C3221-8087-4E67-9105-8BE8FABF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8F15-9113-4801-BED5-9ECC4F45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77DD2-3EF4-43E4-B540-897D92A9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0D7AA-35AB-4B86-B754-EEE5F983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838CD-1228-4E12-9229-44D07865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E88-9A80-4001-BA1F-18CB5DBF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68395-A483-4800-9E6B-7D355E2A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B7254-853E-4145-9588-5DCAA17A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49A0D-BF25-4D43-94D2-609B526B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FFC2D-39ED-4C32-BBC9-75A1847E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1E66E-01EA-485C-9790-5EF6735F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543E7-1631-4B5F-9A97-A29F4B23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20C26-8660-450E-8423-B10491F4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DBE81-3321-458C-91C5-AF374635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264F-149A-4604-9B12-7786D36A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125FA-6271-43DB-9E30-46E5A451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D40-F969-4B1C-93F5-BCDB7BAA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2104B-CD86-4C60-8533-247414C0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24F1C-3F12-4D7B-8714-AB2E4F3B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4D4C9-552A-42C0-B240-F019CC91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D1BE6-F473-402B-886E-D1A42CE2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6E57F-40DB-46C1-ACC0-5B7D98A4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59C53-7201-44DD-A9B5-F9CE6A21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A6D2C-8C29-44C9-AC07-C9CF2B5E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C32A3-7FA4-4E69-BCF4-426423BC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FFF51-E9D6-46CC-8907-E6CB2C9E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F0B77-2E59-4AEC-9BB7-CEA7B088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8A1-9AEA-43A8-8B2E-E04FAFF3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8EBED-FCE0-49F6-AC0A-5D88B249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04B-37C2-4546-BF5E-CF0D567C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597-91EA-4E92-B187-9F46F972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B9A-6C26-45CE-BEA2-8E0EC7EA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F530-3059-4078-85F9-EF7E442BB3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8064-E2E8-4647-9BB3-36EE6DF31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2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6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9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2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5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8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1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4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7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0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3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6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9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2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5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8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1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4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7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0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3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8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1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4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7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0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3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6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9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2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5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8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0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CEB6-5CC1-4CCA-92DA-6C703A282D5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9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A5A7-7B28-498A-8DD2-2B02ED6FE3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70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71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7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7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7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7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8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8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8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8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9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9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9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0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0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0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1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1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1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1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2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2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2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3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3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3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4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4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4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5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5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5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6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6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6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6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7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7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7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7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7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7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88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B999-A419-4534-92D7-1AE9F09853E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http://en.wikipedia.org/wiki/Image:DavidSouter.jpg" TargetMode="External"/><Relationship Id="rId5" Type="http://schemas.openxmlformats.org/officeDocument/2006/relationships/image" Target="../media/image30.jpeg"/><Relationship Id="rId6" Type="http://schemas.openxmlformats.org/officeDocument/2006/relationships/hyperlink" Target="http://en.wikipedia.org/wiki/Image:Anthony_Kennedy_Official.jpg" TargetMode="External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hyperlink" Target="http://en.wikipedia.org/wiki/Image:Samuel_Alito_Court_of_Appeals_photo.jpg" TargetMode="External"/><Relationship Id="rId10" Type="http://schemas.openxmlformats.org/officeDocument/2006/relationships/image" Target="../media/image33.jpe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Times New Roman"/>
              </a:rPr>
              <a:t>The Judicial Branch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8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P Political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ypes of Federal Cour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) U.S. Courts of Appe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ated by Congress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89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o help lessen the work load of the Supreme Cou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cide appeals from U.S. district cour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U.S. Court of Appe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tes are divided into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circuit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or geographic judicial districts (not every state has on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so a circuit for Washington, D.C. and a special appeals court with national jurisdic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v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ppellate jurisdi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NL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May only review cases already decided by a lower cour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nel of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judges decide cases in the Courts of Appe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dges serve fo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f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nominated by President and confirmed by 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U.S. Courts of Appeal Circui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7" name="Picture 7" descr="image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5259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Times New Roman"/>
              </a:rPr>
              <a:t>Types of Federal Cour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.) U.S. Supreme Co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nly court actually created directly by the Constit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ighest cour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in the federal judicial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al authority in dealing with questions arising from the Constitution, federal laws, and trea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s both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riginal and appellate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90%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of cases ar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ppeal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rom lower federal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gress establishes the size of the Supreme Cou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ent size –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associate justices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hief jus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stices nominated by President of the U.S. and confirmed by 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 fo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“lif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U.S. Supreme Court Toda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ief Justice John Roberts, J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sociate Justices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TONIN SCALI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THONY M. KENNED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LARENCE THOM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UTH BADER GINSBU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EPHEN G. BREY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MUEL A. ALITO, J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ONIA SOTOMAYO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LENA KAGA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3" name="Picture 9" descr="Ruth_Bader_Ginsburg_official_portrait"/>
          <p:cNvPicPr/>
          <p:nvPr/>
        </p:nvPicPr>
        <p:blipFill>
          <a:blip r:embed="rId1"/>
          <a:stretch/>
        </p:blipFill>
        <p:spPr>
          <a:xfrm>
            <a:off x="4592520" y="3686040"/>
            <a:ext cx="1122480" cy="14479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1" descr="Official_roberts_CJ"/>
          <p:cNvPicPr/>
          <p:nvPr/>
        </p:nvPicPr>
        <p:blipFill>
          <a:blip r:embed="rId2"/>
          <a:stretch/>
        </p:blipFill>
        <p:spPr>
          <a:xfrm>
            <a:off x="5715000" y="1371600"/>
            <a:ext cx="1646280" cy="21034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Clarence_Thomas_official"/>
          <p:cNvPicPr/>
          <p:nvPr/>
        </p:nvPicPr>
        <p:blipFill>
          <a:blip r:embed="rId3"/>
          <a:stretch/>
        </p:blipFill>
        <p:spPr>
          <a:xfrm>
            <a:off x="5697360" y="3686040"/>
            <a:ext cx="1040040" cy="14479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5" descr="David Hackett Sout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48640" y="3789360"/>
            <a:ext cx="1044360" cy="12193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Anthony McLeod Kenned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629400" y="3675240"/>
            <a:ext cx="1066680" cy="1447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9" descr="AntoninScalia"/>
          <p:cNvPicPr/>
          <p:nvPr/>
        </p:nvPicPr>
        <p:blipFill>
          <a:blip r:embed="rId8"/>
          <a:stretch/>
        </p:blipFill>
        <p:spPr>
          <a:xfrm>
            <a:off x="4162320" y="5168880"/>
            <a:ext cx="990720" cy="1295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3" descr="Samuel Anthony Alito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38720" y="5168880"/>
            <a:ext cx="917640" cy="1295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4" descr=""/>
          <p:cNvPicPr/>
          <p:nvPr/>
        </p:nvPicPr>
        <p:blipFill>
          <a:blip r:embed="rId11"/>
          <a:stretch/>
        </p:blipFill>
        <p:spPr>
          <a:xfrm>
            <a:off x="6291360" y="5122800"/>
            <a:ext cx="1127160" cy="14590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6" descr=""/>
          <p:cNvPicPr/>
          <p:nvPr/>
        </p:nvPicPr>
        <p:blipFill>
          <a:blip r:embed="rId12"/>
          <a:stretch/>
        </p:blipFill>
        <p:spPr>
          <a:xfrm>
            <a:off x="7456320" y="5078520"/>
            <a:ext cx="1071720" cy="147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Times New Roman"/>
              </a:rPr>
              <a:t>Judicial Selectio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4" name="Picture 4" descr="Robertsoath"/>
          <p:cNvPicPr/>
          <p:nvPr/>
        </p:nvPicPr>
        <p:blipFill>
          <a:blip r:embed="rId1"/>
          <a:stretch/>
        </p:blipFill>
        <p:spPr>
          <a:xfrm>
            <a:off x="762120" y="1447920"/>
            <a:ext cx="4572000" cy="3051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Alitoswornin"/>
          <p:cNvPicPr/>
          <p:nvPr/>
        </p:nvPicPr>
        <p:blipFill>
          <a:blip r:embed="rId2"/>
          <a:stretch/>
        </p:blipFill>
        <p:spPr>
          <a:xfrm>
            <a:off x="4191120" y="3505320"/>
            <a:ext cx="4495680" cy="299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Judicial Selection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mal qualifications for federal jud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deral judges serv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during good behavior”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ich generally means for 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hy?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allows judges to be free from political pressures when deciding cases (don’t have to worry about being re-elect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be removed from office throug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peach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convi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ederal judges impeached –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7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nd guilty and remov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Judicial Selection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Lower Court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ident has little to do with choo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e to large # of appointments,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partment of Just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te House staf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ndle most of these nomin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atorial Courtes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owing senators from president’s party who represents the state with the vacancy to approve or disapprove nomin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Judicial Selection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Supreme Court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ident gives more attention to nominations to Supreme Court (higher visibility and importanc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en making appointments, presidents often consi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arty affilia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s judges from their pol.par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dicial philosoph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s judges who share their political ide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ace, gender, religion, reg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dicial experienc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vious experience as judge or attorn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tmus test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s a judge based on their view on 1 single issue (ex. Abor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cceptabilit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s a judge who is non-controversial and will be easily confirmed by the 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Background of Supreme Court Judg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lmost all federal judges ha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ad legal trai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eld positions in gover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ed as lawyers for leading law fir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ed as federal district attorn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ed as law school professo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ew African-Americans, Hispanics, or Wom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President Lyndon B. Johns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ppointed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irst African America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upreme Court Justic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hurgood Marsh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President Ronald Reaga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ppointed the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irst female Supreme Court Justice, Sandra Day O’Conn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4" name="Picture 4" descr="aa_marshallthrgd_law_3_e"/>
          <p:cNvPicPr/>
          <p:nvPr/>
        </p:nvPicPr>
        <p:blipFill>
          <a:blip r:embed="rId1"/>
          <a:stretch/>
        </p:blipFill>
        <p:spPr>
          <a:xfrm>
            <a:off x="5348160" y="990720"/>
            <a:ext cx="1916280" cy="23619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sandra-crop"/>
          <p:cNvPicPr/>
          <p:nvPr/>
        </p:nvPicPr>
        <p:blipFill>
          <a:blip r:embed="rId2"/>
          <a:stretch/>
        </p:blipFill>
        <p:spPr>
          <a:xfrm>
            <a:off x="64771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6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6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6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he Supreme Court At Wor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s the Supreme Court in sess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rm of the Supreme Court begins on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irst Monday in Oc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and generally lasts unti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ne or Ju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of the following y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8" name="Picture 5" descr="U.S. Supreme Court, Courtroom"/>
          <p:cNvPicPr/>
          <p:nvPr/>
        </p:nvPicPr>
        <p:blipFill>
          <a:blip r:embed="rId1"/>
          <a:stretch/>
        </p:blipFill>
        <p:spPr>
          <a:xfrm>
            <a:off x="609480" y="2514600"/>
            <a:ext cx="4038840" cy="31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Introduction to the Judicial Bran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judicial branch und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ticles of Confed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courts had sole authority over all cases – major weakness of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dicial Branch creat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ticle II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the U.S. Constit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ly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ederal court created –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U.S. Supreme Co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s power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gr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create any lower federal cou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4" name="Picture 5" descr="POLRES%20FedCrt"/>
          <p:cNvPicPr/>
          <p:nvPr/>
        </p:nvPicPr>
        <p:blipFill>
          <a:blip r:embed="rId1"/>
          <a:stretch/>
        </p:blipFill>
        <p:spPr>
          <a:xfrm>
            <a:off x="533520" y="45720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555" name="Ink 6" descr=""/>
          <p:cNvPicPr/>
          <p:nvPr/>
        </p:nvPicPr>
        <p:blipFill>
          <a:blip r:embed="rId2"/>
          <a:stretch/>
        </p:blipFill>
        <p:spPr>
          <a:xfrm>
            <a:off x="4319640" y="2930400"/>
            <a:ext cx="1352520" cy="263520"/>
          </a:xfrm>
          <a:prstGeom prst="rect">
            <a:avLst/>
          </a:prstGeom>
          <a:ln w="0">
            <a:noFill/>
          </a:ln>
        </p:spPr>
      </p:pic>
      <p:pic>
        <p:nvPicPr>
          <p:cNvPr id="556" name="Ink 7" descr=""/>
          <p:cNvPicPr/>
          <p:nvPr/>
        </p:nvPicPr>
        <p:blipFill>
          <a:blip r:embed="rId3"/>
          <a:stretch/>
        </p:blipFill>
        <p:spPr>
          <a:xfrm>
            <a:off x="1917720" y="3352680"/>
            <a:ext cx="138240" cy="1011240"/>
          </a:xfrm>
          <a:prstGeom prst="rect">
            <a:avLst/>
          </a:prstGeom>
          <a:ln w="0">
            <a:noFill/>
          </a:ln>
        </p:spPr>
      </p:pic>
      <p:pic>
        <p:nvPicPr>
          <p:cNvPr id="557" name="Ink 8" descr=""/>
          <p:cNvPicPr/>
          <p:nvPr/>
        </p:nvPicPr>
        <p:blipFill>
          <a:blip r:embed="rId4"/>
          <a:stretch/>
        </p:blipFill>
        <p:spPr>
          <a:xfrm>
            <a:off x="3149640" y="4172040"/>
            <a:ext cx="1219320" cy="336600"/>
          </a:xfrm>
          <a:prstGeom prst="rect">
            <a:avLst/>
          </a:prstGeom>
          <a:ln w="0">
            <a:noFill/>
          </a:ln>
        </p:spPr>
      </p:pic>
      <p:pic>
        <p:nvPicPr>
          <p:cNvPr id="558" name="Ink 9" descr=""/>
          <p:cNvPicPr/>
          <p:nvPr/>
        </p:nvPicPr>
        <p:blipFill>
          <a:blip r:embed="rId5"/>
          <a:stretch/>
        </p:blipFill>
        <p:spPr>
          <a:xfrm>
            <a:off x="4935600" y="3676680"/>
            <a:ext cx="3254400" cy="371520"/>
          </a:xfrm>
          <a:prstGeom prst="rect">
            <a:avLst/>
          </a:prstGeom>
          <a:ln w="0">
            <a:noFill/>
          </a:ln>
        </p:spPr>
      </p:pic>
      <p:pic>
        <p:nvPicPr>
          <p:cNvPr id="559" name="Ink 10" descr=""/>
          <p:cNvPicPr/>
          <p:nvPr/>
        </p:nvPicPr>
        <p:blipFill>
          <a:blip r:embed="rId6"/>
          <a:stretch/>
        </p:blipFill>
        <p:spPr>
          <a:xfrm>
            <a:off x="4168800" y="1233360"/>
            <a:ext cx="3316320" cy="319320"/>
          </a:xfrm>
          <a:prstGeom prst="rect">
            <a:avLst/>
          </a:prstGeom>
          <a:ln w="0">
            <a:noFill/>
          </a:ln>
        </p:spPr>
      </p:pic>
      <p:pic>
        <p:nvPicPr>
          <p:cNvPr id="560" name="Ink 11" descr=""/>
          <p:cNvPicPr/>
          <p:nvPr/>
        </p:nvPicPr>
        <p:blipFill>
          <a:blip r:embed="rId7"/>
          <a:stretch/>
        </p:blipFill>
        <p:spPr>
          <a:xfrm>
            <a:off x="4151160" y="1198440"/>
            <a:ext cx="3351240" cy="416160"/>
          </a:xfrm>
          <a:prstGeom prst="rect">
            <a:avLst/>
          </a:prstGeom>
          <a:ln w="0">
            <a:noFill/>
          </a:ln>
        </p:spPr>
      </p:pic>
      <p:pic>
        <p:nvPicPr>
          <p:cNvPr id="561" name="Ink 12" descr=""/>
          <p:cNvPicPr/>
          <p:nvPr/>
        </p:nvPicPr>
        <p:blipFill>
          <a:blip r:embed="rId8"/>
          <a:stretch/>
        </p:blipFill>
        <p:spPr>
          <a:xfrm>
            <a:off x="4338720" y="2886120"/>
            <a:ext cx="1404720" cy="309600"/>
          </a:xfrm>
          <a:prstGeom prst="rect">
            <a:avLst/>
          </a:prstGeom>
          <a:ln w="0">
            <a:noFill/>
          </a:ln>
        </p:spPr>
      </p:pic>
      <p:pic>
        <p:nvPicPr>
          <p:cNvPr id="562" name="Ink 13" descr=""/>
          <p:cNvPicPr/>
          <p:nvPr/>
        </p:nvPicPr>
        <p:blipFill>
          <a:blip r:embed="rId9"/>
          <a:stretch/>
        </p:blipFill>
        <p:spPr>
          <a:xfrm>
            <a:off x="1890720" y="3362400"/>
            <a:ext cx="165240" cy="1011240"/>
          </a:xfrm>
          <a:prstGeom prst="rect">
            <a:avLst/>
          </a:prstGeom>
          <a:ln w="0">
            <a:noFill/>
          </a:ln>
        </p:spPr>
      </p:pic>
      <p:pic>
        <p:nvPicPr>
          <p:cNvPr id="563" name="Ink 14" descr=""/>
          <p:cNvPicPr/>
          <p:nvPr/>
        </p:nvPicPr>
        <p:blipFill>
          <a:blip r:embed="rId10"/>
          <a:stretch/>
        </p:blipFill>
        <p:spPr>
          <a:xfrm>
            <a:off x="4944960" y="3706920"/>
            <a:ext cx="3335400" cy="372960"/>
          </a:xfrm>
          <a:prstGeom prst="rect">
            <a:avLst/>
          </a:prstGeom>
          <a:ln w="0">
            <a:noFill/>
          </a:ln>
        </p:spPr>
      </p:pic>
      <p:pic>
        <p:nvPicPr>
          <p:cNvPr id="564" name="Ink 15" descr=""/>
          <p:cNvPicPr/>
          <p:nvPr/>
        </p:nvPicPr>
        <p:blipFill>
          <a:blip r:embed="rId11"/>
          <a:stretch/>
        </p:blipFill>
        <p:spPr>
          <a:xfrm>
            <a:off x="3159000" y="4135320"/>
            <a:ext cx="1200240" cy="36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he Supreme Court At Wor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es the Supreme Court accept a case to review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ousand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f cases are appealed to the Supreme Court every year- on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ew hundr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e actually hea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cases denied beca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.) Justices agree with the lower court decis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.) Justices believe the case does not involve a significant point of la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ses that are accepted must meet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ule of fo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 of the nine justices must agree to hear the c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of the cases accepted may be disposed of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rief ord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ed to the lower court for reconsideration because of a related case which was recently decid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ses presented to the Supreme Court may be presented throug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.) Writ of Certiorar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an order by the Court (when petitioned) directing a lower court to send up records of a case for revi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.)Certificat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a lower court asks the Supreme Court about a rule of law or procedures in specific ca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6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6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Briefs and Oral Argum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a case reaches the Supreme Court, lawyers for each party file a writte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r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 detailed statement of the facts of the case supporting a particular position by presenting arguments based on relevant facts and citations from previous c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ral argum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low both sides to present their positions to the justices during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 minute peri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stices may interrupt lawyers during this time, raising questions or challenging points of la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Writing Opin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reme Court decisions are explained in a written statement called a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voting with the majority, th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ief just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lects who will write the 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voting with the minority, the most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nior associate just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the majority selects who will write the 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Writing Opin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 Types of Opin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) Majority Opin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pinion agreed upon by a majority of the just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) Concurring Opin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written by a justice or justices who agree with the majority opinion, but not with the reasoning behind the deci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.) Dissenting Opin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written by a justices or justices who disagree with the majority opin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ity opinion becom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ece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andards or guides to be followed in deciding similar cases in the fu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.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Roe v. Wad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abortion),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 Mapp v. Ohio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exclusionary ru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6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s Through Hist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ren Court (1953-196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d b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hief Justice Earl War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ten said to be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“most liberal court ever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ant cases deci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rown v. Board of Education (1954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ed segregation in public sch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Gideon v. Wainwright (1963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states required to provide attorneys for those accused of a cr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Miranda v. Arizona (1966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lice have to inform anyone questioned of their rights in order to use the information in cou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9" name="Picture 4" descr="asset_upload_file983_12268"/>
          <p:cNvPicPr/>
          <p:nvPr/>
        </p:nvPicPr>
        <p:blipFill>
          <a:blip r:embed="rId1"/>
          <a:stretch/>
        </p:blipFill>
        <p:spPr>
          <a:xfrm>
            <a:off x="990720" y="41911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s Through Hist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rger Court (1969-198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d b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hief Justice Warren Bur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ed the Supreme Court to a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re conservativ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de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ed by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ichard Nix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ant cases decided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Roe v. Wade (1973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declared abortions legal with special time constrai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U.S. v. Nixon (1974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ruled that President Nixon’s private recordings were not protected under presidential privilege and ordered them be turned over to the house investiga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2" name="Picture 4" descr="pf041950"/>
          <p:cNvPicPr/>
          <p:nvPr/>
        </p:nvPicPr>
        <p:blipFill>
          <a:blip r:embed="rId1"/>
          <a:stretch/>
        </p:blipFill>
        <p:spPr>
          <a:xfrm>
            <a:off x="5638680" y="4343400"/>
            <a:ext cx="187488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Supreme Courts Through Histo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hnquist Court (1986-200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d by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ief Justice William Rehnqui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servative cou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hat continued to limit, but not reverse, decisions of earlier more liberal courts in the areas of defendant’s rights, abortion, and affirmativ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ant cases deci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Planned Parenthood v. Casey (1992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pheld and ruled constitutional a Pennsylvania law requiring a minor to wait 24 hours after receiving parental approval before getting an abortion – but ruled unconstitutional a provision that required a woman to obtain “informed spousal consent”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fore having an abor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Roper v. Simmons (2004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clared that the death penalty was unconstitutional for anyone under the age of 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5" name="Picture 4" descr="230px-William_Rehnquist"/>
          <p:cNvPicPr/>
          <p:nvPr/>
        </p:nvPicPr>
        <p:blipFill>
          <a:blip r:embed="rId1"/>
          <a:stretch/>
        </p:blipFill>
        <p:spPr>
          <a:xfrm>
            <a:off x="4495680" y="4876920"/>
            <a:ext cx="143028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Judicial Philosoph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 Typ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.) Judicial Activ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ourt should play a more active role in creating national policies and answering questions of conflict in socie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.) Judicial Restra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ourt should operate strictly within the limits of the Constitution and only answer questions if a clear violation of the Constitution is present. Policy making should be left up to the executive and legislative branch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50" name="Picture 9" descr="taf2"/>
          <p:cNvPicPr/>
          <p:nvPr/>
        </p:nvPicPr>
        <p:blipFill>
          <a:blip r:embed="rId1"/>
          <a:stretch/>
        </p:blipFill>
        <p:spPr>
          <a:xfrm>
            <a:off x="990720" y="1143000"/>
            <a:ext cx="4876560" cy="481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5" descr="Checks%20and%20Balances"/>
          <p:cNvPicPr/>
          <p:nvPr/>
        </p:nvPicPr>
        <p:blipFill>
          <a:blip r:embed="rId1"/>
          <a:stretch/>
        </p:blipFill>
        <p:spPr>
          <a:xfrm>
            <a:off x="1523880" y="228600"/>
            <a:ext cx="6115320" cy="6248520"/>
          </a:xfrm>
          <a:prstGeom prst="rect">
            <a:avLst/>
          </a:prstGeom>
          <a:ln w="0">
            <a:noFill/>
          </a:ln>
        </p:spPr>
      </p:pic>
      <p:pic>
        <p:nvPicPr>
          <p:cNvPr id="566" name="Ink 6" descr=""/>
          <p:cNvPicPr/>
          <p:nvPr/>
        </p:nvPicPr>
        <p:blipFill>
          <a:blip r:embed="rId2"/>
          <a:stretch/>
        </p:blipFill>
        <p:spPr>
          <a:xfrm>
            <a:off x="3971880" y="5172120"/>
            <a:ext cx="1424160" cy="264960"/>
          </a:xfrm>
          <a:prstGeom prst="rect">
            <a:avLst/>
          </a:prstGeom>
          <a:ln w="0">
            <a:noFill/>
          </a:ln>
        </p:spPr>
      </p:pic>
      <p:pic>
        <p:nvPicPr>
          <p:cNvPr id="567" name="Ink 7" descr=""/>
          <p:cNvPicPr/>
          <p:nvPr/>
        </p:nvPicPr>
        <p:blipFill>
          <a:blip r:embed="rId3"/>
          <a:stretch/>
        </p:blipFill>
        <p:spPr>
          <a:xfrm>
            <a:off x="4346640" y="5375160"/>
            <a:ext cx="807840" cy="250920"/>
          </a:xfrm>
          <a:prstGeom prst="rect">
            <a:avLst/>
          </a:prstGeom>
          <a:ln w="0">
            <a:noFill/>
          </a:ln>
        </p:spPr>
      </p:pic>
      <p:pic>
        <p:nvPicPr>
          <p:cNvPr id="568" name="Ink 8" descr=""/>
          <p:cNvPicPr/>
          <p:nvPr/>
        </p:nvPicPr>
        <p:blipFill>
          <a:blip r:embed="rId4"/>
          <a:stretch/>
        </p:blipFill>
        <p:spPr>
          <a:xfrm>
            <a:off x="4267080" y="5546880"/>
            <a:ext cx="922320" cy="282600"/>
          </a:xfrm>
          <a:prstGeom prst="rect">
            <a:avLst/>
          </a:prstGeom>
          <a:ln w="0">
            <a:noFill/>
          </a:ln>
        </p:spPr>
      </p:pic>
      <p:pic>
        <p:nvPicPr>
          <p:cNvPr id="569" name="Ink 9" descr=""/>
          <p:cNvPicPr/>
          <p:nvPr/>
        </p:nvPicPr>
        <p:blipFill>
          <a:blip r:embed="rId5"/>
          <a:stretch/>
        </p:blipFill>
        <p:spPr>
          <a:xfrm>
            <a:off x="4213080" y="5672160"/>
            <a:ext cx="1022400" cy="291960"/>
          </a:xfrm>
          <a:prstGeom prst="rect">
            <a:avLst/>
          </a:prstGeom>
          <a:ln w="0">
            <a:noFill/>
          </a:ln>
        </p:spPr>
      </p:pic>
      <p:pic>
        <p:nvPicPr>
          <p:cNvPr id="570" name="Ink 10" descr=""/>
          <p:cNvPicPr/>
          <p:nvPr/>
        </p:nvPicPr>
        <p:blipFill>
          <a:blip r:embed="rId6"/>
          <a:stretch/>
        </p:blipFill>
        <p:spPr>
          <a:xfrm>
            <a:off x="4230720" y="5832360"/>
            <a:ext cx="950760" cy="2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Introduction to the Judicial Bran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.S. Court System To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.S. has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ual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of cour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ederal Cour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 criminal and civil cases involving federal law or any constitutional iss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ate Cour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 criminal and civil cases involving state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905120" y="4419720"/>
            <a:ext cx="571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iminal Ca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or state charges an individual with violating one or more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ivil Ca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or state resolves a dispute between two part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x.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unaway Ju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Introduction to the Judicial Bran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ederal Court 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reme Court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d by the Constit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deral District Courts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d by Congress through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diciary Act of 1789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as federal trial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.S. Court of Appeals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d by Congress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89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as federal appeal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6" name="Picture 4" descr="fig1"/>
          <p:cNvPicPr/>
          <p:nvPr/>
        </p:nvPicPr>
        <p:blipFill>
          <a:blip r:embed="rId1"/>
          <a:stretch/>
        </p:blipFill>
        <p:spPr>
          <a:xfrm>
            <a:off x="1447920" y="3192480"/>
            <a:ext cx="6172200" cy="3408480"/>
          </a:xfrm>
          <a:prstGeom prst="rect">
            <a:avLst/>
          </a:prstGeom>
          <a:ln w="0">
            <a:noFill/>
          </a:ln>
        </p:spPr>
      </p:pic>
      <p:pic>
        <p:nvPicPr>
          <p:cNvPr id="577" name="Ink 5" descr=""/>
          <p:cNvPicPr/>
          <p:nvPr/>
        </p:nvPicPr>
        <p:blipFill>
          <a:blip r:embed="rId2"/>
          <a:stretch/>
        </p:blipFill>
        <p:spPr>
          <a:xfrm>
            <a:off x="3857760" y="6000840"/>
            <a:ext cx="492120" cy="233280"/>
          </a:xfrm>
          <a:prstGeom prst="rect">
            <a:avLst/>
          </a:prstGeom>
          <a:ln w="0">
            <a:noFill/>
          </a:ln>
        </p:spPr>
      </p:pic>
      <p:pic>
        <p:nvPicPr>
          <p:cNvPr id="578" name="Ink 6" descr=""/>
          <p:cNvPicPr/>
          <p:nvPr/>
        </p:nvPicPr>
        <p:blipFill>
          <a:blip r:embed="rId3"/>
          <a:stretch/>
        </p:blipFill>
        <p:spPr>
          <a:xfrm>
            <a:off x="3784680" y="3440160"/>
            <a:ext cx="1530360" cy="272880"/>
          </a:xfrm>
          <a:prstGeom prst="rect">
            <a:avLst/>
          </a:prstGeom>
          <a:ln w="0">
            <a:noFill/>
          </a:ln>
        </p:spPr>
      </p:pic>
      <p:pic>
        <p:nvPicPr>
          <p:cNvPr id="579" name="Ink 7" descr=""/>
          <p:cNvPicPr/>
          <p:nvPr/>
        </p:nvPicPr>
        <p:blipFill>
          <a:blip r:embed="rId4"/>
          <a:stretch/>
        </p:blipFill>
        <p:spPr>
          <a:xfrm>
            <a:off x="4168800" y="4635360"/>
            <a:ext cx="771480" cy="263520"/>
          </a:xfrm>
          <a:prstGeom prst="rect">
            <a:avLst/>
          </a:prstGeom>
          <a:ln w="0">
            <a:noFill/>
          </a:ln>
        </p:spPr>
      </p:pic>
      <p:pic>
        <p:nvPicPr>
          <p:cNvPr id="580" name="Ink 8" descr=""/>
          <p:cNvPicPr/>
          <p:nvPr/>
        </p:nvPicPr>
        <p:blipFill>
          <a:blip r:embed="rId5"/>
          <a:stretch/>
        </p:blipFill>
        <p:spPr>
          <a:xfrm>
            <a:off x="4141800" y="4867200"/>
            <a:ext cx="852480" cy="249480"/>
          </a:xfrm>
          <a:prstGeom prst="rect">
            <a:avLst/>
          </a:prstGeom>
          <a:ln w="0">
            <a:noFill/>
          </a:ln>
        </p:spPr>
      </p:pic>
      <p:pic>
        <p:nvPicPr>
          <p:cNvPr id="581" name="Ink 9" descr=""/>
          <p:cNvPicPr/>
          <p:nvPr/>
        </p:nvPicPr>
        <p:blipFill>
          <a:blip r:embed="rId6"/>
          <a:stretch/>
        </p:blipFill>
        <p:spPr>
          <a:xfrm>
            <a:off x="4338720" y="5931000"/>
            <a:ext cx="601560" cy="247680"/>
          </a:xfrm>
          <a:prstGeom prst="rect">
            <a:avLst/>
          </a:prstGeom>
          <a:ln w="0">
            <a:noFill/>
          </a:ln>
        </p:spPr>
      </p:pic>
      <p:pic>
        <p:nvPicPr>
          <p:cNvPr id="582" name="Ink 10" descr=""/>
          <p:cNvPicPr/>
          <p:nvPr/>
        </p:nvPicPr>
        <p:blipFill>
          <a:blip r:embed="rId7"/>
          <a:stretch/>
        </p:blipFill>
        <p:spPr>
          <a:xfrm>
            <a:off x="4248000" y="6127920"/>
            <a:ext cx="709920" cy="27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What is a Federal Crime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90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ederal Crim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a crime that is either made illegal by U.S. federal legislation or a crime that occurs on U.S. federal propert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during a hostage-tak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with the intent of preventing testimony by a witness, victim, or informant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iling of injurious articles with intent to kill or resulting in dea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for hi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ank-robbery-related murder or kidnapp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by the use of a weapon of mass destructi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fficking in large quantities of drug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eas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495320" y="106668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related to the smuggling of illegal immigra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committed during a drug-related drive-by shoot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committed at an airport serving international civil aviati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ivil rights offenses resulting in deat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of a member of Congress, an important executive official, or a Supreme Court Justic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committed by the use of a firearm during a crime of violence or a drug trafficking cr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of a U.S. national in a foreign countr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during a kidnapp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rder involving tortu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spion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jacking of airpla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Federal Court Jurisdi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risdicti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authority of the courts to hear certain c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Types of Federal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)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riginal Jurisdic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thority to hear a case for the first ti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ials are conducted, evidence is presented, and juries determine outcome of c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ederal District Cour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preme Cou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in certain cases) have original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)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ppellate Jurisdi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rts that hear reviews or appeals of decisions from the lower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ederal Courts of Appeal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preme Cou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ve appellate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.) Concurrent Jurisdi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ows certain types of cases to be tried in either the federal or state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Types of Federal Cour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) District Cou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eated by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diciary Act of 17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deral trial cou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ery state has at least one;  more people = more district court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GA has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entl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94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district courts (w/ over 550 judg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v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riginal jurisdi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N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no appellate juris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cide civil and criminal cases arising under the Constitution and federal law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dges serve fo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f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appointed by President of U.S. and confirmed by 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n only be removed by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mpeachm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with a guilty verdi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</a:rPr>
              <a:t>Participants in the Judicial Syste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tig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laintiff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arty bringing the char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fenda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arty being accused or charg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r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 people who decide the outcome of the tr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2" name="Picture 5" descr="gavel"/>
          <p:cNvPicPr/>
          <p:nvPr/>
        </p:nvPicPr>
        <p:blipFill>
          <a:blip r:embed="rId1"/>
          <a:stretch/>
        </p:blipFill>
        <p:spPr>
          <a:xfrm>
            <a:off x="685800" y="3124080"/>
            <a:ext cx="296244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0:57:42Z</dcterms:created>
  <dc:creator>E200500973</dc:creator>
  <dc:description/>
  <dc:language>en-US</dc:language>
  <cp:lastModifiedBy>Anderson, Jacquelyn</cp:lastModifiedBy>
  <dcterms:modified xsi:type="dcterms:W3CDTF">2011-04-28T17:12:46Z</dcterms:modified>
  <cp:revision>14</cp:revision>
  <dc:subject/>
  <dc:title>The Judicial Branch</dc:title>
</cp:coreProperties>
</file>